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8BB-DD97-47D0-B24D-1A3C1A43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C80F-7AAE-4C9E-AE50-7A813FBD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the students launch Access and start the Northwind Traders database.  Follow the direction on the STARTUP SCREEN.  Log in as whoever is the first person in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he left-hand side of the screen contains the NAVIGATION PANE.  Click on CUSTOMERS &amp; ORDERS.  Double-click to select the CUSTOMER LIST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student to tell you what are the fields…records…what is the primary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FC9-2157-4A11-9714-7815E7D4D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:  allows a user to enter data that is, typically, sent to a server for processing and to mimic the usage of paper forms. Forms can be used to submit data to save on a server (e.g., ordering a product) or can be used to retrieve data (e.g., searching on a search engine). – from http://en.wikipedia.org/wiki/Form_(w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SUPPORTING OBJECTS in the navigation pane.  Scroll down to and double-click on the SALES ANALYSI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go to the navigation icons on the lower left of the form. Tell them to hover over the icons to show the tool tips. – FIRST RECORD – CURRENT RECORD  - NEXT RECORD – LAST RECORD – NEW (BLANK) RECORD  is dimmed and not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403-FD47-4B45-8D0A-DAACDE78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a database designed to print information from a database (either on the screen, to a fil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to the prin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8301-C321-4149-8112-C400C945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to DESIGN VIEW – lower right-hand corn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them to click on one of the SORT fields and select DECENDING and then click on the RUN (!) icon to run the qu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61E4-D430-4E43-8FF6-FECAF065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EE1-64D9-4158-9FE6-361CF1DFF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ery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basic – “To ask a question.’  FROM - http://en.wiktionary.org/wiki/quer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INFORMATION FROM THE DATA ENTRED INTO A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your data showing information from one or more tables. For instance, u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ple database we used when describing normalisation, you could query th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base asking "Show me the first and last names of the students who take both history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graphy and have Alice Hernandez as their advisor" Such a query displays information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table (firstname, lastname), Courses table (course description) and Advisor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visor name), using the keys (student ID, course ID, advisor ID) to find matching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the students click on the CREATE tab.  Click on the QUERY WIZARD &gt; SIMPLE QUERY WIZARD then OK &gt; add a few fields from the CUSTOMERS table &amp; click on NEXT &gt; click on FIN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8D2F-5D10-4725-9656-B09E1181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 — the tables, reports, forms, and so on — in a database. For example, if you need to run a report, you start it from the Navigation Pane. If you need to change the design of your report, you can also open your report in Design view from the Navigation P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723-754A-468C-BCF3-FD086CAE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2CA1-364F-4DBA-9542-D5133E27F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C662-9DED-4AA1-B213-FB4B2A58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k everyone to turn their monitors of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 out the notes pag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day’s agend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 of Database examples. Explanation of relevant vocabulary and termi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ind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ccess myITlab uni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Access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the Post-tes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estion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1FEF-3684-484E-8A5B-EF8766880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s a collection of numbers, characters, images or other outputs. Data is often viewed as a lowest level of abstraction from which information and knowledge are derived. – from http://en.wikipedia.org/wiki/D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cording to the Oxford English Dictionary, the earliest historical meaning of the word </a:t>
            </a: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informat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in English was the act of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informing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or giving form or shape to the mind, as in education, instruction, or training. Information is a quality of a message from a sender to one or more receivers. Information is always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abou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omething (size of a parameter, occurrence of an event, etc). Viewed in this manner, information does not have to be accurate; it may be a truth or a lie, or just the sound of a falling tree. – from http://en.wikipedia.org/wiki/Inform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base: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collection of related information stored in a structured forma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324-56CD-497A-B21C-F2246555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s describe a single aspect of each member of a table. A student record, for inst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ht contain a last name field, a first name field, a date of birth field and so on. All rec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exactly the same structure, so they contain the same fields.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alues in each field v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record to record, of course. In some database systems, you'll find fields referred to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trib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BFC-DFB8-48F6-B79D-E5F6E84A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cord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ord contains all the information about a single 'member' of a table. In a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, each student's details (name, date of birth, contact details, and so on) will be contain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wn record. Records are also known a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uples in technical relational database par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98DD-3D5D-42B6-B8D9-A866BDB7A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D223-165B-45E8-9AD7-6A37A9AE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le store of related information. A table consists of records, and each record is m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of a number of fields. Just to totally confuse things, tables are sometime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think of the phone book as a table: It contains a record for each telephone subscrib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ach subscriber's details are contained in three fields - name, address and tele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931E-6865-4FBA-9CD5-0EDBCD2D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mary key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eld that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iquely identifies a record in a table. In a students table, for inst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ey built from last name + first name might not give you a unique identifier (two or more J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n the school, for example). To uniquely identify each student, you might add a spe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ID field to be used as the primary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01E-86CD-473D-97F6-8E574828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lational databas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atabase consisting of more than one table. In a multi-table databa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t only need to define the structure of each table, you also need to define the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each table in order to link those table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82E2-D545-42FE-A8A2-37D7387CB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D23-68A6-496F-B2F4-DC661EBB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E09-EC6A-4C8B-A9FD-D342A71F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A1C-B202-46C2-B01E-900DAB15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456-3C34-4317-B47D-9DD53A7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BF3-93C4-482A-BFC3-DEC9A09A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681-540F-4DFF-B056-0668827D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113-23AD-4D23-88C1-C945AC0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FD8-9C45-4E66-83C9-5E8558A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13C-E24C-4E64-B5F4-A6F9CAB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62-585E-4DBD-AA4C-FD7DFDB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388-9A81-41FC-9B32-B2CB709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602-3D6A-4640-984C-466D336A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851-B0F2-4DEB-90C7-AE644E6EA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lational Database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905120" y="1327320"/>
            <a:ext cx="5943600" cy="545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Datashee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other term for a tabl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llection of rows and colum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orm is where the data will be entered into the database.  Eases data entr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5333760" cy="420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report is the finished product of a databa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is when data is being displayed in a way that will make sense to the u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ery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port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Que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44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search to find specific inform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n be typed into a text box, or automatically though a lin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419720" cy="3459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s are all of the things that make a databa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m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bjects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057400" y="1569960"/>
            <a:ext cx="5943600" cy="47545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981080" y="2209680"/>
            <a:ext cx="1143000" cy="3886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ving in Acces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ng Object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ng Database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2468160"/>
            <a:ext cx="69040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Datafaces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2" descr="C:\Users\candacel\AppData\Local\Microsoft\Windows\Temporary Internet Files\Content.IE5\L0CSU535\MCj04379800000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905120" cy="1378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candacel\AppData\Local\Microsoft\Windows\Temporary Internet Files\Content.IE5\BU4W3PXO\MCj04257500000[1].wmf"/>
          <p:cNvPicPr/>
          <p:nvPr/>
        </p:nvPicPr>
        <p:blipFill>
          <a:blip r:embed="rId2"/>
          <a:stretch/>
        </p:blipFill>
        <p:spPr>
          <a:xfrm>
            <a:off x="6858000" y="4876920"/>
            <a:ext cx="187632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candacel\AppData\Local\Microsoft\Windows\Temporary Internet Files\Content.IE5\DECOATC0\MCj04324410000[1].wmf"/>
          <p:cNvPicPr/>
          <p:nvPr/>
        </p:nvPicPr>
        <p:blipFill>
          <a:blip r:embed="rId3"/>
          <a:stretch/>
        </p:blipFill>
        <p:spPr>
          <a:xfrm>
            <a:off x="380880" y="380880"/>
            <a:ext cx="18162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Users\candacel\AppData\Local\Microsoft\Windows\Temporary Internet Files\Content.IE5\L0CSU535\MCj04298070000[1].wmf"/>
          <p:cNvPicPr/>
          <p:nvPr/>
        </p:nvPicPr>
        <p:blipFill>
          <a:blip r:embed="rId4"/>
          <a:stretch/>
        </p:blipFill>
        <p:spPr>
          <a:xfrm>
            <a:off x="457200" y="4800600"/>
            <a:ext cx="187308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ata Base Management Software (DBMS) is a tool used to transform </a:t>
            </a:r>
            <a:r>
              <a:rPr b="1" lang="en-US" sz="4000" spc="-1" strike="noStrike">
                <a:solidFill>
                  <a:srgbClr val="222268"/>
                </a:solidFill>
                <a:latin typeface="Garamond"/>
              </a:rPr>
              <a:t>Dat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to </a:t>
            </a:r>
            <a:r>
              <a:rPr b="1" lang="en-US" sz="4000" spc="-1" strike="noStrike">
                <a:solidFill>
                  <a:srgbClr val="222268"/>
                </a:solidFill>
                <a:latin typeface="Garamond"/>
              </a:rPr>
              <a:t>Informatio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7324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Dat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Informa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Databas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Fiel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 is where one category of data is stor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the Facebook database you have a field where you input your favorite music, TV Shows, Movies, etc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5943600" cy="20653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is where all of the data for one particular entry in the form is stor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 example - all of the data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Ferris Bueller” in Facebook would be a reco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cord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511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table would be an entire school’s Facebook accoun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648320" y="1238400"/>
            <a:ext cx="4286160" cy="50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br>
              <a:rPr sz="4400"/>
            </a:b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Primary Key Fiel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6980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n a database there needs to be a way to uniquely distinguish one record from another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 “primary key field” is a field that is unique to a specific record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Facebook equivalent -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email addres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828800" y="4890960"/>
            <a:ext cx="5943600" cy="1586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lational Databas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all tables are related through one common intere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acebook equivalen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acebook group that anyone from any school could joi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2:25:34Z</dcterms:created>
  <dc:creator>Gene W. Lewis</dc:creator>
  <dc:description/>
  <dc:language>en-US</dc:language>
  <cp:lastModifiedBy>cob</cp:lastModifiedBy>
  <dcterms:modified xsi:type="dcterms:W3CDTF">2009-02-15T13:05:28Z</dcterms:modified>
  <cp:revision>137</cp:revision>
  <dc:subject/>
  <dc:title>Database Systems</dc:title>
</cp:coreProperties>
</file>